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4DF1-3C86-4E7F-AB9C-2F6DEBF37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E7BD-5053-4D23-A76D-82B5022E6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75F1-5755-48DE-A66B-526B85981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1E4D-9221-4F90-9548-AC577417A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2AB3-0F22-4C7B-ACAE-ACE3B6EB3E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EA3D-49EE-47D9-86C2-C07085ECA1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693-0BA1-4999-8F69-F27641FB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676-B924-46B6-83A9-1F36C3BF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2F9-D7C8-489F-9614-56B83A66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AA3-7967-4C15-AEE7-7428A685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8B7C-28A9-4E42-B5F0-95F15817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30B3-AA5A-4197-B414-59C1FED0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C423-7DB6-4387-9A1C-75F6FA21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E5F3-CF05-41B7-906C-290A95F6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37C0-A07F-4BB7-9C7C-8CB5296E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0E03-ED22-4492-ACD9-9CA9E0E1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9D4F-07B0-451C-95C0-7652FAFF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727-8EDD-4323-902B-6F7B01C7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60A5-0D96-40EC-8D74-C261DC03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34B8-E972-48D8-A340-BD6BEB2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82FC-22D5-429E-98AE-C7D0277F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B834-FFEF-47CE-8D77-AB99F356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777D-4D41-4ED6-BFCC-78370234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9D7-A378-462C-9E9D-85BCE124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5DD-B286-4BAF-9884-C00F312A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5F4-E970-476C-9360-1EBB9846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B1E-0727-419D-8A3C-E6BB80C4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3C7-E6F9-453A-BF6A-8217ECC0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2C2-3D51-4D09-8E03-FAED078B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949-C8B5-4B48-8D34-458A2DE6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631D-52C7-4931-89DE-AF5E6AE10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A3C-1FDB-416C-8960-4871613ABD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OKERAGE FIR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What is the second most watched US index after the Dow Jones Industrial Average?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20" y="9144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Give an example of brokerage firms that offer both full and discount services to their clients.</a:t>
            </a:r>
            <a:br>
              <a:rPr sz="4400"/>
            </a:b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8763120" cy="21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What type of brokerage firms provide little or no investment advi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23760" y="114300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What type of brokerage firms provide the most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ersonalized services?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37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Give an example of mutual fund companies that also provide brokerage services to their client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2-06T17:11:07Z</dcterms:modified>
  <cp:revision>148</cp:revision>
  <dc:subject/>
  <dc:title>D/O: TO EXPLAIN AND IDENTIFY PROBLEMS OF ECONOMICS</dc:title>
</cp:coreProperties>
</file>